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BBFAD-EF42-4489-9DD6-513FFD300B67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ids &amp; Ba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y Robert McG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ids &amp;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Robert McG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aracteristics of Ba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Base is characterized by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bitter taste. (Milk of Magnesia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feels slippery.  (Soapy Water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turns Red Litmus Blu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stics of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ase is characterized b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itter taste. (Milk of Magnesi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feels slippery.  (Soapy Wat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turns Red Litmus Blu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 Learn about Acids &amp; Base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o you think is the pH level of NYC tap water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H of a swimming pool must be checked periodically. Wh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it important for Lakes &amp; Rivers to maintain a certain pH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Learn about Acids &amp; Bas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you think is the pH level of NYC tap wate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H of a swimming pool must be checked periodically. Wh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it important for Lakes &amp; Rivers to maintain a certain pH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day’s Experi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 the pH of Pepsi, tap water, and drain clean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OOD LUCK!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day’s Experi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st the pH of Pepsi, tap water, and drain clean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LUCK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r Goals for tod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determine the difference between Acids &amp; Ba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cuss the importance of studying Acids &amp; Ba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rform an experiment dealing with Acids &amp; Ba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r Goals for to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determine the difference between Acids &amp;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 the importance of studying Acids &amp;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form an experiment dealing with Acids &amp;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e pH scal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H scale measures how acidic or basic a solution i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pH scal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H scale measures how acidic or basic a solution 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H sca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H scale is the concentration of hydrogen ions in a given substan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H sc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H scale is the concentration of hydrogen ions in a given substa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dentifying Acids and Ba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ids have a ph from 0-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wer pH value indicates a stronger aci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ses have a pH from 7-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gher pH value indicates a stronger ba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ntifying Acids and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ids have a ph from 0-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er pH value indicates a stronger aci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s have a pH from 7-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er pH value indicates a stronger ba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initions of Acids and Ba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acid is a substance that breaks into         ions in an aqueous solu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Base (alkaline) is a substance that breaks into           ions in an aqueous solu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: aqueous solution is any solution where           is the solv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s of Acids and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acid is a substance that breaks into         ions in an aqueous solu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ase (alkaline) is a substance that breaks into           ions in an aqueous solu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aqueous solution is any solution where           is the solv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d we Miss something?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happens when the pH of a substance is 7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: A pH level of 7 indicates a Neutral Substance i.e: Water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d we Miss something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happens when the pH of a substance is 7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: A pH level of 7 indicates a Neutral Substance i.e: Wate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 Your Knowled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e range of an ACID on the pH scal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: 0-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e range of a BASE and what is another name for a BAS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: 7-14, Alkal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st Your Knowle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range of an ACID on the pH scal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: 0-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range of a BASE and what is another name for a BAS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: 7-14, Alka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aracteristics Of Acid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ids can be characterized by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sour tas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turns blue litmus paper r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tastes sour. Try drinking lemon juice (citric acid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stics Of Acid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ids can be characterized b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our tas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turns blue litmus paper 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tastes sour. Try drinking lemon juice (citric aci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51443-A310-4DE8-9BCB-05F4432F7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905120" y="1600200"/>
            <a:ext cx="67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905120" y="3964320"/>
            <a:ext cx="67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58FA8-84FE-483F-BB04-649E971DD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905120" y="1600200"/>
            <a:ext cx="330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80200" y="1600200"/>
            <a:ext cx="330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905120" y="3964320"/>
            <a:ext cx="330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80200" y="3964320"/>
            <a:ext cx="330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E0CA1-6ECB-4DC6-BD40-370CEEAD5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905120" y="1600200"/>
            <a:ext cx="218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197960" y="1600200"/>
            <a:ext cx="218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1160" y="1600200"/>
            <a:ext cx="218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905120" y="3964320"/>
            <a:ext cx="218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197960" y="3964320"/>
            <a:ext cx="218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1160" y="3964320"/>
            <a:ext cx="218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A3AEF-D4B1-48B8-83C8-90C9A418C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F1622-D16F-45F5-871C-787C2D0C7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905120" y="1600200"/>
            <a:ext cx="67816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8A159-EA17-4EC0-82D2-6111AE523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905120" y="1600200"/>
            <a:ext cx="6781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72E56-B501-4CE3-BEE1-18EC717F0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905120" y="1600200"/>
            <a:ext cx="3309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380200" y="1600200"/>
            <a:ext cx="3309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82A85-54F9-4CB7-B2A5-AC0B0829D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EC68E-A28B-4E99-9D51-3B3F5C494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447920" y="380880"/>
            <a:ext cx="7238880" cy="48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51A1E-BEAF-4D23-91E7-448E4CB75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905120" y="1600200"/>
            <a:ext cx="330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380200" y="1600200"/>
            <a:ext cx="3309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905120" y="3964320"/>
            <a:ext cx="330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AEF8E-F7F0-4C17-91C7-4C20224F8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905120" y="1600200"/>
            <a:ext cx="67816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12B82-D523-4E8E-9552-D17C5350B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905120" y="1600200"/>
            <a:ext cx="3309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80200" y="1600200"/>
            <a:ext cx="330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80200" y="3964320"/>
            <a:ext cx="330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13708-AC06-49F9-98B6-444676529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905120" y="1600200"/>
            <a:ext cx="330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80200" y="1600200"/>
            <a:ext cx="330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905120" y="3964320"/>
            <a:ext cx="67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8D2BF-9C0B-4FDE-A368-0CEA4611B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905120" y="1600200"/>
            <a:ext cx="67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905120" y="3964320"/>
            <a:ext cx="67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C6D04-7CAB-4EE1-A5D5-E1759097C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905120" y="1600200"/>
            <a:ext cx="330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80200" y="1600200"/>
            <a:ext cx="330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905120" y="3964320"/>
            <a:ext cx="330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380200" y="3964320"/>
            <a:ext cx="330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E9B22-7A63-4476-90FF-5D5ACC8B5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905120" y="1600200"/>
            <a:ext cx="218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197960" y="1600200"/>
            <a:ext cx="218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491160" y="1600200"/>
            <a:ext cx="218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905120" y="3964320"/>
            <a:ext cx="218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197960" y="3964320"/>
            <a:ext cx="218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491160" y="3964320"/>
            <a:ext cx="218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14A0E-DAF0-4F89-97A9-02460424A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905120" y="1600200"/>
            <a:ext cx="6781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D60E7-766B-46CE-8BAC-649CE10C6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05120" y="1600200"/>
            <a:ext cx="3309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80200" y="1600200"/>
            <a:ext cx="3309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DFCEC-B63C-4C3F-BAE6-4BD4C351F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17B45-055D-443A-8624-5FC10E8ED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47920" y="380880"/>
            <a:ext cx="7238880" cy="48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EB7D1-77F8-425A-BA52-3331FA675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905120" y="1600200"/>
            <a:ext cx="330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80200" y="1600200"/>
            <a:ext cx="3309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905120" y="3964320"/>
            <a:ext cx="330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20A3B-BCC1-48AF-B04F-E4A2EFB89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905120" y="1600200"/>
            <a:ext cx="3309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80200" y="1600200"/>
            <a:ext cx="330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80200" y="3964320"/>
            <a:ext cx="330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CDAF9-F151-45BB-AD6B-9058BEF65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905120" y="1600200"/>
            <a:ext cx="330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80200" y="1600200"/>
            <a:ext cx="330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905120" y="3964320"/>
            <a:ext cx="67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06B6D-FABA-4A33-8315-6C47C1B07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905120" y="1600200"/>
            <a:ext cx="6781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21182-C83A-4213-B63B-C08EF79F43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905120" y="1600200"/>
            <a:ext cx="6781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43F53-900B-4367-8E1A-63540A4435A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95480" y="1752480"/>
            <a:ext cx="563904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Acids &amp; Bases</a:t>
            </a:r>
            <a:endParaRPr b="0" lang="en-US" sz="7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3657600" y="4647960"/>
            <a:ext cx="464832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Robert McG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Characteristics of Bases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905120" y="1600200"/>
            <a:ext cx="6781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Base is characterized b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bitter taste. (Milk of Magnesi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feels slippery.  (Soapy Wat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turns Red Litmus Blu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0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898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898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898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898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898" fill="hold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y Learn about Acids &amp; Bases?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905120" y="1600200"/>
            <a:ext cx="6781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o you think is the pH level of NYC tap wat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H of a swimming pool must be checked periodically. Wh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it important for Lakes &amp; Rivers to maintain a certain pH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0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898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898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898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898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Today’s Experimen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905120" y="1600200"/>
            <a:ext cx="6781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the pH of Pepsi, tap water, and drain clea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LUCK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Our Goals for today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905120" y="1600200"/>
            <a:ext cx="6781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determine the difference between Acids &amp; B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cuss the importance of studying Acids &amp; B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form an experiment dealing with Acids &amp; B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6" dur="2000" fill="hold"/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at is the pH scale?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99840" y="1371240"/>
            <a:ext cx="28954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H scale measures how </a:t>
            </a:r>
            <a:r>
              <a:rPr b="0" i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acidic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i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basic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olution 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phscale"/>
          <p:cNvPicPr/>
          <p:nvPr/>
        </p:nvPicPr>
        <p:blipFill>
          <a:blip r:embed="rId1"/>
          <a:stretch/>
        </p:blipFill>
        <p:spPr>
          <a:xfrm>
            <a:off x="4572000" y="1295280"/>
            <a:ext cx="4419720" cy="5562720"/>
          </a:xfrm>
          <a:prstGeom prst="rect">
            <a:avLst/>
          </a:prstGeom>
          <a:ln w="0">
            <a:noFill/>
          </a:ln>
        </p:spPr>
      </p:pic>
      <p:sp>
        <p:nvSpPr>
          <p:cNvPr id="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pH scale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905120" y="1600200"/>
            <a:ext cx="678168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H scale is the concentration of hydrogen ions in a given substa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5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Object 4"/>
              <p:cNvSpPr txBox="1"/>
              <p:nvPr/>
            </p:nvSpPr>
            <p:spPr>
              <a:xfrm>
                <a:off x="2895480" y="3886200"/>
                <a:ext cx="388620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H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["/>
                        <m:endChr m:val="]"/>
                      </m:dPr>
                      <m:e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Identifying Acids and Bases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905120" y="1676520"/>
            <a:ext cx="7238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Acid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have a ph from 0-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ower pH value indicates a stronger aci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Base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have a pH from 7-1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igher pH value indicates a stronger bas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898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898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898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898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898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Definitions of Acids and Bas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905120" y="1599840"/>
            <a:ext cx="67816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acid is a substance that breaks into         ions in an aqueous solu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Base (alkaline) is a substance that breaks into           ions in an aqueous solu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e: aqueous solution is any solution where           is the solv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Object 4"/>
              <p:cNvSpPr txBox="1"/>
              <p:nvPr/>
            </p:nvSpPr>
            <p:spPr>
              <a:xfrm>
                <a:off x="3124080" y="2057400"/>
                <a:ext cx="68580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1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Object 6"/>
              <p:cNvSpPr txBox="1"/>
              <p:nvPr/>
            </p:nvSpPr>
            <p:spPr>
              <a:xfrm>
                <a:off x="0" y="0"/>
                <a:ext cx="42876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OH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3" name="Rectangle 9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Object 8"/>
              <p:cNvSpPr txBox="1"/>
              <p:nvPr/>
            </p:nvSpPr>
            <p:spPr>
              <a:xfrm>
                <a:off x="5334120" y="4038480"/>
                <a:ext cx="9144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OH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5" name="Rectangle 11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Object 10"/>
              <p:cNvSpPr txBox="1"/>
              <p:nvPr/>
            </p:nvSpPr>
            <p:spPr>
              <a:xfrm>
                <a:off x="5105520" y="5410080"/>
                <a:ext cx="83808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O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Did we Miss something??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905120" y="1600200"/>
            <a:ext cx="6781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happens when the pH of a substance is 7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: A pH level of 7 indicates a Neutral Substance i.e: Water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est Your Knowledge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905120" y="1600200"/>
            <a:ext cx="6781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range of an ACID on the pH sca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: 0-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range of a BASE and what is another name for a BAS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: 7-14, Alka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0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Characteristics Of Acids 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905120" y="1600200"/>
            <a:ext cx="6781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cids can be characterized by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our tas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turns blue litmus paper 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tastes sour. Try drinking lemon juice (citric aci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0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898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898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898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898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898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18T15:23:08Z</dcterms:created>
  <dc:creator>Polytechnic University</dc:creator>
  <dc:description/>
  <cp:keywords/>
  <dc:language>en-US</dc:language>
  <cp:lastModifiedBy>LEGION</cp:lastModifiedBy>
  <dcterms:modified xsi:type="dcterms:W3CDTF">2017-01-26T09:10:26Z</dcterms:modified>
  <cp:revision>8</cp:revision>
  <dc:subject/>
  <dc:title>Acids &amp; Bas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731071033</vt:lpwstr>
  </property>
</Properties>
</file>